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95AA-1DF0-4ED7-8D8A-63DBE98A2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E6B3-01C6-4811-8EA5-1FD27C88A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6366-08BC-45B4-BEF2-747FBCBDC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0D33-F4FA-4A29-9119-F3270314B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2125-9BCA-4624-A97E-0F87E15D0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74D3-5632-4B25-8738-17569AEF6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B5E3-05E8-47A7-8F51-01437F887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C701-B7B1-4F64-9096-F756E3972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51E6-87FA-4B80-87DC-A82E345C8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3AA6-6E19-46B1-A754-9F4F7DB8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4A64-6AEF-4126-A99D-EF1D74AD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1049-0BFC-40F4-844D-CE8400B9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CE694-3A78-4829-8593-CE8DA323ED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57920" y="2514600"/>
            <a:ext cx="636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Monotype Corsiva"/>
              </a:rPr>
              <a:t>Photography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80680" y="1981080"/>
            <a:ext cx="245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Clare Murphy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73800" y="3886200"/>
            <a:ext cx="163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Senior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897600" cy="44276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676520" y="129528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ff"/>
                </a:solidFill>
                <a:latin typeface="Monotype Corsiva"/>
              </a:rPr>
              <a:t>Photography Portfol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2320" y="411480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Monotype Corsiva"/>
              </a:rPr>
              <a:t>Clare Murp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Macr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2720880" cy="41245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343400" y="1752480"/>
            <a:ext cx="416088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143000" y="2133720"/>
            <a:ext cx="716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Monotype Corsiva"/>
              </a:rPr>
              <a:t>THE END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Broken and Scrap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3151440" cy="382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95680" y="2057400"/>
            <a:ext cx="381024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Patterns and Textur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4129200" cy="2670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648320" y="3581280"/>
            <a:ext cx="4106880" cy="27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Digital Light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4419720" cy="29462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486400" y="1447920"/>
            <a:ext cx="31496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Digital Light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8600" y="2819520"/>
            <a:ext cx="4191120" cy="27939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724280" y="1600200"/>
            <a:ext cx="419112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Digital Water Drop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04920" y="1701720"/>
            <a:ext cx="4114800" cy="2743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572000" y="3352680"/>
            <a:ext cx="419112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Digital Water Drop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04920" y="2971800"/>
            <a:ext cx="4114800" cy="27432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648320" y="1523880"/>
            <a:ext cx="4114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Photogra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6713640" cy="45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Macr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4116240" cy="2706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724280" y="3581280"/>
            <a:ext cx="410220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21:09:43Z</dcterms:created>
  <dc:creator>bal_dcmurphy</dc:creator>
  <dc:description/>
  <dc:language>en-US</dc:language>
  <cp:lastModifiedBy>C</cp:lastModifiedBy>
  <dcterms:modified xsi:type="dcterms:W3CDTF">2009-05-22T22:13:32Z</dcterms:modified>
  <cp:revision>10</cp:revision>
  <dc:subject/>
  <dc:title>Slide 1</dc:title>
</cp:coreProperties>
</file>